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8F3-C1A5-4A0F-9096-D85AA464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DB8-6F27-4AC0-89CC-6AAB2C81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EAE-BF90-4B18-BD81-1B396B5F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4F7-9817-4E70-8B22-E600F8F6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E7B-41DC-4330-9309-1DB8CF4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721-83F3-409E-BF92-F134598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877-AECF-4F1D-A5E3-683EF079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FFF-4271-452C-9A6C-165CA50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83F-8C93-4079-82FC-C42538D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59D-EBDB-464A-AFB2-92A3C67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60F-0873-4EC1-8F78-D67CE5D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022-6461-4B08-88A5-4420D16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843-C39C-437B-BDEF-0E7F10D0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صوم يُفتح بابُ السماءِ مَن صام يُمنح مُلك العلاء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5118wOgIICHEKd_ph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85800"/>
            <a:ext cx="259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بُّ العلاءِ يُعلي مقاما مَن بالنقاءِ يقضي الصيا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60642WcABmRMkZD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13372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حياتي هَبني غُفرانا واقبل صلاتي صومي قربان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29:08Z</dcterms:created>
  <dc:creator>SUZANNE.MD</dc:creator>
  <dc:description/>
  <dc:language>en-US</dc:language>
  <cp:lastModifiedBy>USER</cp:lastModifiedBy>
  <dcterms:modified xsi:type="dcterms:W3CDTF">2003-03-03T15:01:39Z</dcterms:modified>
  <cp:revision>2</cp:revision>
  <dc:subject/>
  <dc:title>PowerPoint Presentation</dc:title>
</cp:coreProperties>
</file>